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CE4-87F8-434C-B3D3-2C483BAC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47D-6E38-477E-9164-C85C0022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9B1-69D4-402A-8DE7-0FB2F877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0CA-D715-4E89-99C9-4B796BDC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E8E-BF86-4374-BC32-BFE41586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DC9-69D1-4DBB-AF59-41C9DA1E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E06-B1E6-4296-B087-A14E7230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9CF-7AD3-42AF-9EF0-6185FFD2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9A5-976D-420B-A51A-8F26087D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EEF-A984-4FC7-9803-0F917C8B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55C-544F-4BAB-AE1C-274D1493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45A-787F-41D9-912F-65534CFC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9EE1-2CBB-49B4-BA8D-EABF3E40B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68360" y="-243000"/>
            <a:ext cx="10080720" cy="741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1:00:28Z</dcterms:created>
  <dc:creator>Peter Grant</dc:creator>
  <dc:description/>
  <dc:language>en-US</dc:language>
  <cp:lastModifiedBy>Peter Grant</cp:lastModifiedBy>
  <dcterms:modified xsi:type="dcterms:W3CDTF">2012-04-18T11:05:12Z</dcterms:modified>
  <cp:revision>2</cp:revision>
  <dc:subject/>
  <dc:title>Slide 1</dc:title>
</cp:coreProperties>
</file>